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cc"/>
                </a:solidFill>
                <a:latin typeface="Times New Roman"/>
              </a:rPr>
              <a:t>Comp231 Fall 2000 Dik L. LEE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zh-TW" sz="1400" spc="-1" strike="noStrike">
                <a:solidFill>
                  <a:srgbClr val="3333cc"/>
                </a:solidFill>
                <a:latin typeface="Times New Roman"/>
              </a:rPr>
              <a:t>Department of Computer Science, HKUST   Slide </a:t>
            </a:r>
            <a:fld id="{CCCEB457-0789-4094-B0C1-54FD18D47FA6}" type="slidenum">
              <a:rPr b="1" lang="zh-TW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34955" dir="2927119" blurRad="0" rotWithShape="0">
              <a:srgbClr val="00cc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 231 Database Managemen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ahoma"/>
              </a:rPr>
              <a:t>1. Int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64935" dir="135546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big problem in application development is the </a:t>
            </a:r>
            <a:r>
              <a:rPr b="0" i="1" lang="en-US" sz="2000" spc="-1" strike="noStrike">
                <a:solidFill>
                  <a:srgbClr val="ff5050"/>
                </a:solidFill>
                <a:latin typeface="Tahoma"/>
              </a:rPr>
              <a:t>sepa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applications from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have change my program when I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lace my hard driv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e the data in a b-tree instead of a hash fil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ition the data into two physical files (or merge two physical files into one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e salary as floating point number instead of intege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 other applications that use the same set of dat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 more data fields to support other application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8809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64935" dir="135546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swer to the previous questions is to introduce levels of </a:t>
            </a:r>
            <a:r>
              <a:rPr b="0" i="1" lang="en-US" sz="2400" spc="-1" strike="noStrike">
                <a:solidFill>
                  <a:srgbClr val="ff5050"/>
                </a:solidFill>
                <a:latin typeface="Tahoma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ff5050"/>
                </a:solidFill>
                <a:latin typeface="Tahoma"/>
              </a:rPr>
              <a:t>indir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how do </a:t>
            </a:r>
            <a:r>
              <a:rPr b="0" i="1" lang="en-US" sz="2400" spc="-1" strike="noStrike">
                <a:solidFill>
                  <a:srgbClr val="ff5050"/>
                </a:solidFill>
                <a:latin typeface="Tahoma"/>
              </a:rPr>
              <a:t>function cal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low you to change a part of your program without affecting other par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558800" y="3691080"/>
            <a:ext cx="5730840" cy="1066680"/>
            <a:chOff x="1558800" y="3691080"/>
            <a:chExt cx="5730840" cy="1066680"/>
          </a:xfrm>
        </p:grpSpPr>
        <p:sp>
          <p:nvSpPr>
            <p:cNvPr id="102" name=""/>
            <p:cNvSpPr/>
            <p:nvPr/>
          </p:nvSpPr>
          <p:spPr>
            <a:xfrm>
              <a:off x="1558800" y="3691080"/>
              <a:ext cx="1371600" cy="1066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ain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12800" y="3843360"/>
              <a:ext cx="1143000" cy="7614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38560" y="3843360"/>
              <a:ext cx="1143000" cy="7614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46040" y="4071960"/>
              <a:ext cx="5436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04840" y="3919320"/>
              <a:ext cx="609480" cy="88560"/>
            </a:xfrm>
            <a:custGeom>
              <a:avLst/>
              <a:gdLst/>
              <a:ahLst/>
              <a:rect l="l" t="t" r="r" b="b"/>
              <a:pathLst>
                <a:path w="384" h="56">
                  <a:moveTo>
                    <a:pt x="0" y="56"/>
                  </a:moveTo>
                  <a:cubicBezTo>
                    <a:pt x="52" y="36"/>
                    <a:pt x="104" y="16"/>
                    <a:pt x="144" y="8"/>
                  </a:cubicBezTo>
                  <a:cubicBezTo>
                    <a:pt x="184" y="0"/>
                    <a:pt x="200" y="0"/>
                    <a:pt x="240" y="8"/>
                  </a:cubicBezTo>
                  <a:cubicBezTo>
                    <a:pt x="280" y="16"/>
                    <a:pt x="332" y="36"/>
                    <a:pt x="384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4760" y="3979800"/>
              <a:ext cx="609480" cy="88560"/>
            </a:xfrm>
            <a:custGeom>
              <a:avLst/>
              <a:gdLst/>
              <a:ahLst/>
              <a:rect l="l" t="t" r="r" b="b"/>
              <a:pathLst>
                <a:path w="384" h="56">
                  <a:moveTo>
                    <a:pt x="0" y="56"/>
                  </a:moveTo>
                  <a:cubicBezTo>
                    <a:pt x="52" y="36"/>
                    <a:pt x="104" y="16"/>
                    <a:pt x="144" y="8"/>
                  </a:cubicBezTo>
                  <a:cubicBezTo>
                    <a:pt x="184" y="0"/>
                    <a:pt x="200" y="0"/>
                    <a:pt x="240" y="8"/>
                  </a:cubicBezTo>
                  <a:cubicBezTo>
                    <a:pt x="280" y="16"/>
                    <a:pt x="332" y="36"/>
                    <a:pt x="384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30800" y="4005000"/>
              <a:ext cx="609480" cy="88560"/>
            </a:xfrm>
            <a:custGeom>
              <a:avLst/>
              <a:gdLst/>
              <a:ahLst/>
              <a:rect l="l" t="t" r="r" b="b"/>
              <a:pathLst>
                <a:path w="384" h="56">
                  <a:moveTo>
                    <a:pt x="0" y="56"/>
                  </a:moveTo>
                  <a:cubicBezTo>
                    <a:pt x="52" y="36"/>
                    <a:pt x="104" y="16"/>
                    <a:pt x="144" y="8"/>
                  </a:cubicBezTo>
                  <a:cubicBezTo>
                    <a:pt x="184" y="0"/>
                    <a:pt x="200" y="0"/>
                    <a:pt x="240" y="8"/>
                  </a:cubicBezTo>
                  <a:cubicBezTo>
                    <a:pt x="280" y="16"/>
                    <a:pt x="332" y="36"/>
                    <a:pt x="384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800000">
              <a:off x="6130440" y="4384440"/>
              <a:ext cx="609480" cy="88560"/>
            </a:xfrm>
            <a:custGeom>
              <a:avLst/>
              <a:gdLst/>
              <a:ahLst/>
              <a:rect l="l" t="t" r="r" b="b"/>
              <a:pathLst>
                <a:path w="384" h="56">
                  <a:moveTo>
                    <a:pt x="0" y="56"/>
                  </a:moveTo>
                  <a:cubicBezTo>
                    <a:pt x="52" y="36"/>
                    <a:pt x="104" y="16"/>
                    <a:pt x="144" y="8"/>
                  </a:cubicBezTo>
                  <a:cubicBezTo>
                    <a:pt x="184" y="0"/>
                    <a:pt x="200" y="0"/>
                    <a:pt x="240" y="8"/>
                  </a:cubicBezTo>
                  <a:cubicBezTo>
                    <a:pt x="280" y="16"/>
                    <a:pt x="332" y="36"/>
                    <a:pt x="384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0800000">
              <a:off x="2871360" y="4419360"/>
              <a:ext cx="609480" cy="88560"/>
            </a:xfrm>
            <a:custGeom>
              <a:avLst/>
              <a:gdLst/>
              <a:ahLst/>
              <a:rect l="l" t="t" r="r" b="b"/>
              <a:pathLst>
                <a:path w="384" h="56">
                  <a:moveTo>
                    <a:pt x="0" y="56"/>
                  </a:moveTo>
                  <a:cubicBezTo>
                    <a:pt x="52" y="36"/>
                    <a:pt x="104" y="16"/>
                    <a:pt x="144" y="8"/>
                  </a:cubicBezTo>
                  <a:cubicBezTo>
                    <a:pt x="184" y="0"/>
                    <a:pt x="200" y="0"/>
                    <a:pt x="240" y="8"/>
                  </a:cubicBezTo>
                  <a:cubicBezTo>
                    <a:pt x="280" y="16"/>
                    <a:pt x="332" y="36"/>
                    <a:pt x="384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0800000">
              <a:off x="4479480" y="4402080"/>
              <a:ext cx="609480" cy="88560"/>
            </a:xfrm>
            <a:custGeom>
              <a:avLst/>
              <a:gdLst/>
              <a:ahLst/>
              <a:rect l="l" t="t" r="r" b="b"/>
              <a:pathLst>
                <a:path w="384" h="56">
                  <a:moveTo>
                    <a:pt x="0" y="56"/>
                  </a:moveTo>
                  <a:cubicBezTo>
                    <a:pt x="52" y="36"/>
                    <a:pt x="104" y="16"/>
                    <a:pt x="144" y="8"/>
                  </a:cubicBezTo>
                  <a:cubicBezTo>
                    <a:pt x="184" y="0"/>
                    <a:pt x="200" y="0"/>
                    <a:pt x="240" y="8"/>
                  </a:cubicBezTo>
                  <a:cubicBezTo>
                    <a:pt x="280" y="16"/>
                    <a:pt x="332" y="36"/>
                    <a:pt x="384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8809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64935" dir="135546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ree Levels of 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1981080"/>
            <a:ext cx="69343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2666880"/>
            <a:ext cx="12952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266688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2040" y="27432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……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266688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4191120"/>
            <a:ext cx="1523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5410080"/>
            <a:ext cx="1523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203480" y="2251080"/>
            <a:ext cx="6624000" cy="3695040"/>
            <a:chOff x="1203480" y="2251080"/>
            <a:chExt cx="6624000" cy="3695040"/>
          </a:xfrm>
        </p:grpSpPr>
        <p:sp>
          <p:nvSpPr>
            <p:cNvPr id="123" name=""/>
            <p:cNvSpPr/>
            <p:nvPr/>
          </p:nvSpPr>
          <p:spPr>
            <a:xfrm>
              <a:off x="1203480" y="2251080"/>
              <a:ext cx="11588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yr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19520" y="2286000"/>
              <a:ext cx="136800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49240" y="2286000"/>
              <a:ext cx="82548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3400" y="4267080"/>
              <a:ext cx="249408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 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0440" y="5486400"/>
              <a:ext cx="18601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les on dis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8809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64935" dir="135546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ree Levels of Abstraction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8200" y="1581120"/>
            <a:ext cx="760248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buClr>
                <a:srgbClr val="ff505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5050"/>
                </a:solidFill>
                <a:latin typeface="AvantGarde"/>
              </a:rPr>
              <a:t>Physical level: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escribe how a record is stored on d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760" indent="-165240">
              <a:lnSpc>
                <a:spcPct val="100000"/>
              </a:lnSpc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  <a:ea typeface="新細明體"/>
              </a:rPr>
              <a:t>e.g., “Divide the customer records into 3 partitions and store them on disks 1, 2 and 3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ff505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5050"/>
                </a:solidFill>
                <a:latin typeface="AvantGarde"/>
              </a:rPr>
              <a:t>Logical level: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escribes data stored in database, and the relationships among the data. Similar to defining a record type in Pascal or C:</a:t>
            </a:r>
            <a:br>
              <a:rPr sz="2000"/>
            </a:br>
            <a:r>
              <a:rPr b="0" lang="en-US" sz="1800" spc="-1" strike="noStrike">
                <a:solidFill>
                  <a:srgbClr val="3333cc"/>
                </a:solidFill>
                <a:latin typeface="GungsuhChe"/>
              </a:rPr>
              <a:t>Type customer = 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GungsuhChe"/>
                <a:ea typeface="新細明體"/>
              </a:rPr>
              <a:t>name: st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GungsuhChe"/>
                <a:ea typeface="新細明體"/>
              </a:rPr>
              <a:t>street: st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GungsuhChe"/>
                <a:ea typeface="新細明體"/>
              </a:rPr>
              <a:t>city: integer; e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ff505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5050"/>
                </a:solidFill>
                <a:latin typeface="AvantGarde"/>
              </a:rPr>
              <a:t>View level: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Define a subset of the database for a particular application. Views can also hide information (e.g. salary) for security purpo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2675" dir="216058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stances and Sch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evel is defined by a </a:t>
            </a:r>
            <a:r>
              <a:rPr b="0" i="1" lang="en-US" sz="2400" spc="-1" strike="noStrike">
                <a:solidFill>
                  <a:srgbClr val="ff5050"/>
                </a:solidFill>
                <a:latin typeface="Tahoma"/>
              </a:rPr>
              <a:t>schema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defin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ata at the corresponding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ogical schema defines the logical structure of the database (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.g., set of customers and accounts and the relationship between the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hysical schema defines the file formats and 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tabase</a:t>
            </a:r>
            <a:r>
              <a:rPr b="0" lang="en-US" sz="24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5050"/>
                </a:solidFill>
                <a:latin typeface="Tahoma"/>
              </a:rPr>
              <a:t>ins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s to the actual content of the database at a particular point in time. A database instance must conform to the corresponding sch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1600200" y="838080"/>
            <a:ext cx="6338520" cy="4724640"/>
            <a:chOff x="1600200" y="838080"/>
            <a:chExt cx="6338520" cy="4724640"/>
          </a:xfrm>
        </p:grpSpPr>
        <p:sp>
          <p:nvSpPr>
            <p:cNvPr id="133" name=""/>
            <p:cNvSpPr/>
            <p:nvPr/>
          </p:nvSpPr>
          <p:spPr>
            <a:xfrm>
              <a:off x="4114800" y="2590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14800" y="3962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4800" y="5257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00200" y="2209680"/>
              <a:ext cx="236232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00200" y="3581280"/>
              <a:ext cx="236232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g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0200" y="4952880"/>
              <a:ext cx="236232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52480" y="2897280"/>
              <a:ext cx="533520" cy="68400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52640 h 684000"/>
                <a:gd name="textAreaBottom" fmla="*/ 462600 h 6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656" stAng="-5400000" swAng="-5400000"/>
                  <a:lnTo>
                    <a:pt x="0" y="9784"/>
                  </a:lnTo>
                  <a:arcTo wR="21600" hR="9656" stAng="10800000" swAng="-3099610"/>
                  <a:lnTo>
                    <a:pt x="14400" y="21048"/>
                  </a:lnTo>
                  <a:lnTo>
                    <a:pt x="21600" y="19376"/>
                  </a:lnTo>
                  <a:lnTo>
                    <a:pt x="14400" y="16600"/>
                  </a:lnTo>
                  <a:lnTo>
                    <a:pt x="14400" y="18760"/>
                  </a:lnTo>
                  <a:arcTo wR="21600" hR="9656" stAng="7700390" swAng="3089424"/>
                  <a:lnTo>
                    <a:pt x="0" y="9720"/>
                  </a:lnTo>
                  <a:arcTo wR="21600" hR="9656" stAng="-10789814" swAng="5389814"/>
                  <a:close/>
                </a:path>
                <a:path fill="darkenLess" w="21600" h="21600">
                  <a:moveTo>
                    <a:pt x="21600" y="0"/>
                  </a:moveTo>
                  <a:arcTo wR="21600" hR="9656" stAng="-5400000" swAng="-5400000"/>
                  <a:lnTo>
                    <a:pt x="0" y="9656"/>
                  </a:lnTo>
                  <a:arcTo wR="21600" hR="9656" stAng="10800000" swAng="-10186"/>
                  <a:lnTo>
                    <a:pt x="0" y="9720"/>
                  </a:lnTo>
                  <a:arcTo wR="21600" hR="9656" stAng="-10789814" swAng="5389814"/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0580400">
              <a:off x="3201480" y="2893320"/>
              <a:ext cx="381240" cy="687240"/>
            </a:xfrm>
            <a:custGeom>
              <a:avLst/>
              <a:gdLst>
                <a:gd name="textAreaLeft" fmla="*/ 51120 w 381240"/>
                <a:gd name="textAreaRight" fmla="*/ 330120 w 381240"/>
                <a:gd name="textAreaTop" fmla="*/ 153000 h 687240"/>
                <a:gd name="textAreaBottom" fmla="*/ 467640 h 68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624" stAng="-5400000" swAng="-5400000"/>
                  <a:lnTo>
                    <a:pt x="0" y="9880"/>
                  </a:lnTo>
                  <a:arcTo wR="21600" hR="9624" stAng="10800000" swAng="-1826463"/>
                  <a:lnTo>
                    <a:pt x="8550" y="19645"/>
                  </a:lnTo>
                  <a:lnTo>
                    <a:pt x="21600" y="19376"/>
                  </a:lnTo>
                  <a:lnTo>
                    <a:pt x="8550" y="15197"/>
                  </a:lnTo>
                  <a:lnTo>
                    <a:pt x="8550" y="17293"/>
                  </a:lnTo>
                  <a:arcTo wR="21600" hR="9624" stAng="8973537" swAng="1806089"/>
                  <a:lnTo>
                    <a:pt x="2" y="9752"/>
                  </a:lnTo>
                  <a:arcTo wR="21600" hR="9624" stAng="-10779627" swAng="5379627"/>
                  <a:close/>
                </a:path>
                <a:path fill="darkenLess" w="21600" h="21600">
                  <a:moveTo>
                    <a:pt x="21600" y="0"/>
                  </a:moveTo>
                  <a:arcTo wR="21600" hR="9624" stAng="-5400000" swAng="-5400000"/>
                  <a:lnTo>
                    <a:pt x="0" y="9624"/>
                  </a:lnTo>
                  <a:arcTo wR="21600" hR="9624" stAng="10800000" swAng="-20373"/>
                  <a:lnTo>
                    <a:pt x="2" y="9752"/>
                  </a:lnTo>
                  <a:arcTo wR="21600" hR="9624" stAng="-10779627" swAng="5379627"/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46360" y="4267080"/>
              <a:ext cx="587160" cy="722520"/>
            </a:xfrm>
            <a:custGeom>
              <a:avLst/>
              <a:gdLst>
                <a:gd name="textAreaLeft" fmla="*/ 78480 w 587160"/>
                <a:gd name="textAreaRight" fmla="*/ 508680 w 587160"/>
                <a:gd name="textAreaTop" fmla="*/ 161280 h 722520"/>
                <a:gd name="textAreaBottom" fmla="*/ 488880 h 72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656" stAng="-5400000" swAng="-5400000"/>
                  <a:lnTo>
                    <a:pt x="0" y="9784"/>
                  </a:lnTo>
                  <a:arcTo wR="21600" hR="9656" stAng="10800000" swAng="-3992347"/>
                  <a:lnTo>
                    <a:pt x="17486" y="21423"/>
                  </a:lnTo>
                  <a:lnTo>
                    <a:pt x="21600" y="19376"/>
                  </a:lnTo>
                  <a:lnTo>
                    <a:pt x="17486" y="16975"/>
                  </a:lnTo>
                  <a:lnTo>
                    <a:pt x="17486" y="19135"/>
                  </a:lnTo>
                  <a:arcTo wR="21600" hR="9656" stAng="6807653" swAng="3982160"/>
                  <a:lnTo>
                    <a:pt x="0" y="9720"/>
                  </a:lnTo>
                  <a:arcTo wR="21600" hR="9656" stAng="-10789814" swAng="5389814"/>
                  <a:close/>
                </a:path>
                <a:path fill="darkenLess" w="21600" h="21600">
                  <a:moveTo>
                    <a:pt x="21600" y="0"/>
                  </a:moveTo>
                  <a:arcTo wR="21600" hR="9656" stAng="-5400000" swAng="-5400000"/>
                  <a:lnTo>
                    <a:pt x="0" y="9656"/>
                  </a:lnTo>
                  <a:arcTo wR="21600" hR="9656" stAng="10800000" swAng="-10186"/>
                  <a:lnTo>
                    <a:pt x="0" y="9720"/>
                  </a:lnTo>
                  <a:arcTo wR="21600" hR="9656" stAng="-10789814" swAng="5389814"/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0608000">
              <a:off x="3119400" y="4191120"/>
              <a:ext cx="533520" cy="76176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70280 h 761760"/>
                <a:gd name="textAreaBottom" fmla="*/ 5155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656" stAng="-5400000" swAng="-5400000"/>
                  <a:lnTo>
                    <a:pt x="0" y="9784"/>
                  </a:lnTo>
                  <a:arcTo wR="21600" hR="9656" stAng="10800000" swAng="-3099610"/>
                  <a:lnTo>
                    <a:pt x="14400" y="21048"/>
                  </a:lnTo>
                  <a:lnTo>
                    <a:pt x="21600" y="19376"/>
                  </a:lnTo>
                  <a:lnTo>
                    <a:pt x="14400" y="16600"/>
                  </a:lnTo>
                  <a:lnTo>
                    <a:pt x="14400" y="18760"/>
                  </a:lnTo>
                  <a:arcTo wR="21600" hR="9656" stAng="7700390" swAng="3089424"/>
                  <a:lnTo>
                    <a:pt x="0" y="9720"/>
                  </a:lnTo>
                  <a:arcTo wR="21600" hR="9656" stAng="-10789814" swAng="5389814"/>
                  <a:close/>
                </a:path>
                <a:path fill="darkenLess" w="21600" h="21600">
                  <a:moveTo>
                    <a:pt x="21600" y="0"/>
                  </a:moveTo>
                  <a:arcTo wR="21600" hR="9656" stAng="-5400000" swAng="-5400000"/>
                  <a:lnTo>
                    <a:pt x="0" y="9656"/>
                  </a:lnTo>
                  <a:arcTo wR="21600" hR="9656" stAng="10800000" swAng="-10186"/>
                  <a:lnTo>
                    <a:pt x="0" y="9720"/>
                  </a:lnTo>
                  <a:arcTo wR="21600" hR="9656" stAng="-10789814" swAng="5389814"/>
                  <a:close/>
                </a:path>
              </a:pathLst>
            </a:custGeom>
            <a:solidFill>
              <a:srgbClr val="3333cc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4280" y="2286000"/>
              <a:ext cx="22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View defini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3200" y="3733920"/>
              <a:ext cx="21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Logical sche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1760" y="499428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Physical sche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00200" y="838080"/>
              <a:ext cx="236232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28800" y="1523880"/>
              <a:ext cx="533520" cy="68580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53360 h 685800"/>
                <a:gd name="textAreaBottom" fmla="*/ 4640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656" stAng="-5400000" swAng="-5400000"/>
                  <a:lnTo>
                    <a:pt x="0" y="9784"/>
                  </a:lnTo>
                  <a:arcTo wR="21600" hR="9656" stAng="10800000" swAng="-3099610"/>
                  <a:lnTo>
                    <a:pt x="14400" y="21048"/>
                  </a:lnTo>
                  <a:lnTo>
                    <a:pt x="21600" y="19376"/>
                  </a:lnTo>
                  <a:lnTo>
                    <a:pt x="14400" y="16600"/>
                  </a:lnTo>
                  <a:lnTo>
                    <a:pt x="14400" y="18760"/>
                  </a:lnTo>
                  <a:arcTo wR="21600" hR="9656" stAng="7700390" swAng="3089424"/>
                  <a:lnTo>
                    <a:pt x="0" y="9720"/>
                  </a:lnTo>
                  <a:arcTo wR="21600" hR="9656" stAng="-10789814" swAng="5389814"/>
                  <a:close/>
                </a:path>
                <a:path fill="darkenLess" w="21600" h="21600">
                  <a:moveTo>
                    <a:pt x="21600" y="0"/>
                  </a:moveTo>
                  <a:arcTo wR="21600" hR="9656" stAng="-5400000" swAng="-5400000"/>
                  <a:lnTo>
                    <a:pt x="0" y="9656"/>
                  </a:lnTo>
                  <a:arcTo wR="21600" hR="9656" stAng="10800000" swAng="-10186"/>
                  <a:lnTo>
                    <a:pt x="0" y="9720"/>
                  </a:lnTo>
                  <a:arcTo wR="21600" hR="9656" stAng="-10789814" swAng="5389814"/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580400">
              <a:off x="3278160" y="1521720"/>
              <a:ext cx="380880" cy="687240"/>
            </a:xfrm>
            <a:custGeom>
              <a:avLst/>
              <a:gdLst>
                <a:gd name="textAreaLeft" fmla="*/ 50760 w 380880"/>
                <a:gd name="textAreaRight" fmla="*/ 330120 w 380880"/>
                <a:gd name="textAreaTop" fmla="*/ 153000 h 687240"/>
                <a:gd name="textAreaBottom" fmla="*/ 467640 h 68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624" stAng="-5400000" swAng="-5400000"/>
                  <a:lnTo>
                    <a:pt x="0" y="9880"/>
                  </a:lnTo>
                  <a:arcTo wR="21600" hR="9624" stAng="10800000" swAng="-1826463"/>
                  <a:lnTo>
                    <a:pt x="8550" y="19645"/>
                  </a:lnTo>
                  <a:lnTo>
                    <a:pt x="21600" y="19376"/>
                  </a:lnTo>
                  <a:lnTo>
                    <a:pt x="8550" y="15197"/>
                  </a:lnTo>
                  <a:lnTo>
                    <a:pt x="8550" y="17293"/>
                  </a:lnTo>
                  <a:arcTo wR="21600" hR="9624" stAng="8973537" swAng="1806089"/>
                  <a:lnTo>
                    <a:pt x="2" y="9752"/>
                  </a:lnTo>
                  <a:arcTo wR="21600" hR="9624" stAng="-10779627" swAng="5379627"/>
                  <a:close/>
                </a:path>
                <a:path fill="darkenLess" w="21600" h="21600">
                  <a:moveTo>
                    <a:pt x="21600" y="0"/>
                  </a:moveTo>
                  <a:arcTo wR="21600" hR="9624" stAng="-5400000" swAng="-5400000"/>
                  <a:lnTo>
                    <a:pt x="0" y="9624"/>
                  </a:lnTo>
                  <a:arcTo wR="21600" hR="9624" stAng="10800000" swAng="-20373"/>
                  <a:lnTo>
                    <a:pt x="2" y="9752"/>
                  </a:lnTo>
                  <a:arcTo wR="21600" hR="9624" stAng="-10779627" swAng="5379627"/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62651" dir="2317211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ata 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bility to modify a schema definition in one level without affecting a schema definition in the next higher level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interfaces between the various levels and components should be well defined so that changes in some parts do not seriously influence other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wo levels of data independence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5050"/>
                </a:solidFill>
                <a:latin typeface="Tahoma"/>
              </a:rPr>
              <a:t>- Physical data independen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505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5050"/>
                </a:solidFill>
                <a:latin typeface="Tahoma"/>
              </a:rPr>
              <a:t>- Logical data independen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699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55100" dir="2098867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ata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llection of tools for describ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ata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ata seman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ata constrai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44956" dir="2270252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tity-Relationship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of entity-relationship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4343400"/>
            <a:ext cx="11430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2819520"/>
            <a:ext cx="1143000" cy="533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cial-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3733920"/>
            <a:ext cx="1066680" cy="533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ustomer-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2819520"/>
            <a:ext cx="1143000" cy="533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ustomer-str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3581280"/>
            <a:ext cx="1143000" cy="533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-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4191120"/>
            <a:ext cx="1371600" cy="838080"/>
          </a:xfrm>
          <a:prstGeom prst="flowChartDecision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POS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44197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2971800"/>
            <a:ext cx="1067040" cy="533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ccount-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7480" y="2895480"/>
            <a:ext cx="990720" cy="609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41911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514240" y="33526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971800" y="39625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048120" y="45720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4648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35053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848360" y="350532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65581" dir="1948844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of tabular data in the relational mode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270080" y="31082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76200" y="3108240"/>
            <a:ext cx="1055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32080" y="31082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36760" y="3108240"/>
            <a:ext cx="1055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92640" y="31082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98760" y="3108240"/>
            <a:ext cx="1054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52840" y="3108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59320" y="3108240"/>
            <a:ext cx="1055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14840" y="3108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21320" y="3108240"/>
            <a:ext cx="1054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75400" y="3108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270080" y="2751120"/>
            <a:ext cx="5311800" cy="2375280"/>
            <a:chOff x="1270080" y="2751120"/>
            <a:chExt cx="5311800" cy="2375280"/>
          </a:xfrm>
        </p:grpSpPr>
        <p:sp>
          <p:nvSpPr>
            <p:cNvPr id="186" name=""/>
            <p:cNvSpPr/>
            <p:nvPr/>
          </p:nvSpPr>
          <p:spPr>
            <a:xfrm>
              <a:off x="1276200" y="2757600"/>
              <a:ext cx="1055880" cy="174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90240" y="2759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67280" y="2759040"/>
              <a:ext cx="60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10000"/>
                  </a:solidFill>
                  <a:latin typeface="Times New Roman"/>
                </a:rPr>
                <a:t>customer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76200" y="2932200"/>
              <a:ext cx="1055880" cy="176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0600" y="2933640"/>
              <a:ext cx="36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0" i="1" lang="en-US" sz="1200" spc="-1" strike="noStrike">
                  <a:solidFill>
                    <a:srgbClr val="010000"/>
                  </a:solidFill>
                  <a:latin typeface="Times New Roman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36760" y="2757600"/>
              <a:ext cx="1055880" cy="174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52240" y="2759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29280" y="2759040"/>
              <a:ext cx="41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10000"/>
                  </a:solidFill>
                  <a:latin typeface="Times New Roman"/>
                </a:rPr>
                <a:t>social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36760" y="2932200"/>
              <a:ext cx="1055880" cy="176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53320" y="293364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0" i="1" lang="en-US" sz="1200" spc="-1" strike="noStrike">
                  <a:solidFill>
                    <a:srgbClr val="010000"/>
                  </a:solidFill>
                  <a:latin typeface="Times New Roman"/>
                </a:rPr>
                <a:t>secur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98760" y="2757600"/>
              <a:ext cx="1054080" cy="174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12800" y="2759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89840" y="2759040"/>
              <a:ext cx="60876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10000"/>
                  </a:solidFill>
                  <a:latin typeface="Times New Roman"/>
                </a:rPr>
                <a:t>customer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98760" y="2932200"/>
              <a:ext cx="1054080" cy="176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13160" y="2933640"/>
              <a:ext cx="37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0" i="1" lang="en-US" sz="1200" spc="-1" strike="noStrike">
                  <a:solidFill>
                    <a:srgbClr val="010000"/>
                  </a:solidFill>
                  <a:latin typeface="Times New Roman"/>
                </a:rPr>
                <a:t>stre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59320" y="2757600"/>
              <a:ext cx="1055520" cy="174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73360" y="2759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50040" y="2759040"/>
              <a:ext cx="60876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10000"/>
                  </a:solidFill>
                  <a:latin typeface="Times New Roman"/>
                </a:rPr>
                <a:t>customer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59320" y="2932200"/>
              <a:ext cx="1055520" cy="176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74440" y="2933640"/>
              <a:ext cx="25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0" i="1" lang="en-US" sz="1200" spc="-1" strike="noStrike">
                  <a:solidFill>
                    <a:srgbClr val="010000"/>
                  </a:solidFill>
                  <a:latin typeface="Times New Roman"/>
                </a:rPr>
                <a:t>c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21320" y="2757600"/>
              <a:ext cx="1054080" cy="174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35360" y="2759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12760" y="275904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10000"/>
                  </a:solidFill>
                  <a:latin typeface="Times New Roman"/>
                </a:rPr>
                <a:t>account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21320" y="2932200"/>
              <a:ext cx="1054080" cy="176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35720" y="293364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10000"/>
                  </a:solidFill>
                  <a:latin typeface="Times New Roman"/>
                </a:rPr>
                <a:t>nu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70080" y="27511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70080" y="27511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70080" y="275112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70080" y="27511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70080" y="27511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70080" y="275112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76200" y="2751120"/>
              <a:ext cx="10558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76200" y="2751120"/>
              <a:ext cx="1055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32080" y="27511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32080" y="275112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32080" y="275112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36760" y="2751120"/>
              <a:ext cx="10558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36760" y="2751120"/>
              <a:ext cx="1055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92640" y="27511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92640" y="27511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92640" y="275112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98760" y="2751120"/>
              <a:ext cx="1054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98760" y="2751120"/>
              <a:ext cx="105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52840" y="27511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52840" y="27511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52840" y="275112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59320" y="2751120"/>
              <a:ext cx="1055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59320" y="2751120"/>
              <a:ext cx="10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14840" y="27511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14840" y="27511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14840" y="275112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1320" y="2751120"/>
              <a:ext cx="1054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21320" y="2751120"/>
              <a:ext cx="105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75400" y="27511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75400" y="27511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75400" y="275112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75400" y="27511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75400" y="27511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75400" y="275112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70080" y="2757600"/>
              <a:ext cx="6120" cy="35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70080" y="2757600"/>
              <a:ext cx="144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32080" y="2757600"/>
              <a:ext cx="4680" cy="35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32080" y="2757600"/>
              <a:ext cx="144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92640" y="2757600"/>
              <a:ext cx="6120" cy="35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92640" y="2757600"/>
              <a:ext cx="144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52840" y="2757600"/>
              <a:ext cx="6480" cy="35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52840" y="2757600"/>
              <a:ext cx="180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14840" y="2757600"/>
              <a:ext cx="6480" cy="35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14840" y="2757600"/>
              <a:ext cx="180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75400" y="2757600"/>
              <a:ext cx="6480" cy="35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75400" y="2757600"/>
              <a:ext cx="144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89520" y="311472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Johns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89880" y="329076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Sm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89520" y="346536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Johns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90240" y="364176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J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89880" y="381492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Sm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52600" y="3114720"/>
              <a:ext cx="78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192-83-746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52600" y="3290760"/>
              <a:ext cx="78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019-28-374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52600" y="3465360"/>
              <a:ext cx="78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192-83-746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52600" y="3641760"/>
              <a:ext cx="78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321-12-31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52600" y="3814920"/>
              <a:ext cx="78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019-28-374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13520" y="311472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Al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3160" y="329076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Nor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13520" y="346536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Al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13160" y="364176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M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13160" y="381492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Nor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73720" y="3114720"/>
              <a:ext cx="58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Palo A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73720" y="329076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Ry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73720" y="3465360"/>
              <a:ext cx="58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Palo A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74080" y="36417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Harris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73720" y="381492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Ry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35360" y="3114720"/>
              <a:ext cx="38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A-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35360" y="3290760"/>
              <a:ext cx="38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A-2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35360" y="3465360"/>
              <a:ext cx="38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A-2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35360" y="3641760"/>
              <a:ext cx="38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A-2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35360" y="3814920"/>
              <a:ext cx="38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A-2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70080" y="310824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70080" y="31082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76200" y="3108240"/>
              <a:ext cx="1055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32080" y="31082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32080" y="31082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36760" y="3108240"/>
              <a:ext cx="1055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392640" y="310824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92640" y="31082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98760" y="3108240"/>
              <a:ext cx="1054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52840" y="31082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52840" y="310824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59320" y="3108240"/>
              <a:ext cx="1055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14840" y="31082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14840" y="310824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21320" y="3108240"/>
              <a:ext cx="1054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575400" y="31082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75400" y="31082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70080" y="3114720"/>
              <a:ext cx="6120" cy="87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70080" y="3114720"/>
              <a:ext cx="1440" cy="87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70080" y="39942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270080" y="399420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70080" y="399420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70080" y="39942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70080" y="399420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70080" y="399420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76200" y="3994200"/>
              <a:ext cx="10558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76200" y="3994200"/>
              <a:ext cx="1055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32080" y="3114720"/>
              <a:ext cx="4680" cy="87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32080" y="3114720"/>
              <a:ext cx="1440" cy="87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32080" y="399420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32080" y="39942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32080" y="399420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36760" y="3994200"/>
              <a:ext cx="10558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36760" y="3994200"/>
              <a:ext cx="1055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92640" y="3114720"/>
              <a:ext cx="6120" cy="87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92640" y="3114720"/>
              <a:ext cx="1440" cy="87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92640" y="39942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92640" y="399420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92640" y="399420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98760" y="3994200"/>
              <a:ext cx="1054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98760" y="3994200"/>
              <a:ext cx="105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52840" y="3114720"/>
              <a:ext cx="6480" cy="87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52840" y="3114720"/>
              <a:ext cx="1800" cy="87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52840" y="39942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52840" y="39942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52840" y="39942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59320" y="3994200"/>
              <a:ext cx="1055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59320" y="3994200"/>
              <a:ext cx="10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14840" y="3114720"/>
              <a:ext cx="6480" cy="87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14840" y="3114720"/>
              <a:ext cx="1800" cy="87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14840" y="39942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14840" y="39942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14840" y="39942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21320" y="3994200"/>
              <a:ext cx="1054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21320" y="3994200"/>
              <a:ext cx="105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75400" y="3114720"/>
              <a:ext cx="6480" cy="87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75400" y="3114720"/>
              <a:ext cx="1440" cy="87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75400" y="39942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75400" y="39942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75400" y="399420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75400" y="39942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75400" y="39942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75400" y="399420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22360" y="4235400"/>
              <a:ext cx="1600200" cy="176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25120" y="4237200"/>
              <a:ext cx="997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ccount-nu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29040" y="4235400"/>
              <a:ext cx="1585800" cy="176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80560" y="4237200"/>
              <a:ext cx="48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10000"/>
                  </a:solidFill>
                  <a:latin typeface="Times New Roman"/>
                </a:rPr>
                <a:t>bal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16240" y="422928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16240" y="422928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16240" y="422928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16240" y="422928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16240" y="422928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16240" y="422928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22360" y="4229280"/>
              <a:ext cx="16002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22360" y="4229280"/>
              <a:ext cx="1600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22560" y="422928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22560" y="42292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22560" y="422928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29040" y="4229280"/>
              <a:ext cx="15858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29040" y="4229280"/>
              <a:ext cx="158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14840" y="422928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14840" y="42292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14840" y="422928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14840" y="422928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14840" y="42292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514840" y="422928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6240" y="4235400"/>
              <a:ext cx="6120" cy="17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16240" y="4235400"/>
              <a:ext cx="1440" cy="176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22560" y="4235400"/>
              <a:ext cx="6480" cy="17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22560" y="4235400"/>
              <a:ext cx="1800" cy="176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14840" y="4235400"/>
              <a:ext cx="6480" cy="17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14840" y="4235400"/>
              <a:ext cx="1800" cy="176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928600" y="4417920"/>
              <a:ext cx="38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A-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58840" y="4594320"/>
              <a:ext cx="38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A-2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958840" y="4768920"/>
              <a:ext cx="38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A-2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958840" y="4943520"/>
              <a:ext cx="38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A-2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36800" y="441792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36800" y="459432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36800" y="476892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36800" y="494352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Times New Roman"/>
                </a:rPr>
                <a:t>7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16240" y="44118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16240" y="441180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16240" y="441180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22360" y="4411800"/>
              <a:ext cx="1600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22360" y="4411800"/>
              <a:ext cx="1600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22560" y="441180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22560" y="44118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22560" y="441180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29040" y="4411800"/>
              <a:ext cx="15858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29040" y="4411800"/>
              <a:ext cx="158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14840" y="441180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4840" y="44118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14840" y="441180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16240" y="4416480"/>
              <a:ext cx="612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16240" y="4416480"/>
              <a:ext cx="1440" cy="70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16240" y="51181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16240" y="51181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16240" y="511812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16240" y="51181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16240" y="51181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16240" y="511812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22360" y="5118120"/>
              <a:ext cx="16002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22360" y="5118120"/>
              <a:ext cx="1600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22560" y="4416480"/>
              <a:ext cx="648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22560" y="4416480"/>
              <a:ext cx="1800" cy="70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22560" y="51181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22560" y="51181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2560" y="511812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29040" y="5118120"/>
              <a:ext cx="15858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29040" y="5118120"/>
              <a:ext cx="158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14840" y="4416480"/>
              <a:ext cx="648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14840" y="4416480"/>
              <a:ext cx="1800" cy="70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14840" y="51181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14840" y="51181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14840" y="511812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14840" y="51181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14840" y="51181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14840" y="511812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428840"/>
                <a:tab algn="l" pos="39466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i="1" lang="en-US" sz="2000" spc="-1" strike="noStrike">
                <a:solidFill>
                  <a:srgbClr val="ff5050"/>
                </a:solidFill>
                <a:latin typeface="Tahoma"/>
              </a:rPr>
              <a:t>Company</a:t>
            </a:r>
            <a:r>
              <a:rPr b="1" i="1" lang="en-US" sz="2000" spc="-1" strike="noStrike">
                <a:solidFill>
                  <a:srgbClr val="ff505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5050"/>
                </a:solidFill>
                <a:latin typeface="Tahoma"/>
              </a:rPr>
              <a:t>Product</a:t>
            </a:r>
            <a:r>
              <a:rPr b="1" i="1" lang="en-US" sz="2000" spc="-1" strike="noStrike">
                <a:solidFill>
                  <a:srgbClr val="ff505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5050"/>
                </a:solidFill>
                <a:latin typeface="Tahoma"/>
              </a:rPr>
              <a:t>Rema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428840"/>
                <a:tab algn="l" pos="39466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ac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acle 8i, 9i, etc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’s 2nd largest software compa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428840"/>
                <a:tab algn="l" pos="39466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O, Larry Ellison, world’s 2nd riche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428840"/>
                <a:tab algn="l" pos="39466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B2, Universal Serv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’s 2nd largest after Informix acquis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428840"/>
                <a:tab algn="l" pos="39466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, SQL Serv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comes with MS Off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428840"/>
                <a:tab algn="l" pos="39466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bas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ive Serv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O John Chen, grown up in H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428840"/>
                <a:tab algn="l" pos="39466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i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Serv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quired by IBM in 20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218578" dir="213291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ig Names in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2675" dir="216058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Definition Language (D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ation notation for defining the database sch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ress what were in the previous two slides to the DBMS in a formal langu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5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5050"/>
                </a:solidFill>
                <a:latin typeface="Tahoma"/>
              </a:rPr>
              <a:t>Data storage and definition langua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special type of DDL in which the storage structure and access methods used by the database system are specifi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1040" dir="2520846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Manipulation Language (D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nguage for accessing and manipulation the data organized by the appropriate data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classes of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505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ahoma"/>
              </a:rPr>
              <a:t>Procedur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user specifies what data is required and how to get those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505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ahoma"/>
              </a:rPr>
              <a:t>Nonprocedur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user specifies what data is required without specifying how to get thos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0334" dir="1597152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ransactio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0880" y="19810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ff5050"/>
                </a:solidFill>
                <a:latin typeface="Times New Roman"/>
              </a:rPr>
              <a:t>trans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collection of operations that performs a single log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in databas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28195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66920" y="25909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6960" y="30132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a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95480" y="3200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8954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532800" y="3200400"/>
            <a:ext cx="5916240" cy="2558520"/>
            <a:chOff x="532800" y="3200400"/>
            <a:chExt cx="5916240" cy="2558520"/>
          </a:xfrm>
        </p:grpSpPr>
        <p:sp>
          <p:nvSpPr>
            <p:cNvPr id="433" name=""/>
            <p:cNvSpPr/>
            <p:nvPr/>
          </p:nvSpPr>
          <p:spPr>
            <a:xfrm>
              <a:off x="532800" y="3809880"/>
              <a:ext cx="19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Transaction 2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57600" y="3886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57600" y="40384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86400" y="3886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57600" y="32004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48320" y="32004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7600" y="49528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61840" y="5299200"/>
              <a:ext cx="288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Conflicting read/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3200400" y="3048120"/>
            <a:ext cx="304920" cy="38088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3200040" y="3048120"/>
            <a:ext cx="304920" cy="30456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182880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ahoma"/>
              </a:rPr>
              <a:t>Transaction-management 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nsures that the database remains in a consistent (correct) state despite system failures (e.g. power failures and operating system crashes) and transaction fail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ahoma"/>
              </a:rPr>
              <a:t>Concurrency-control manag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trols the interaction among the concurrent transactions, to ensure the consistency of the datab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90512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ransaction Management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272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98339" dir="2390731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orag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5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ahoma"/>
              </a:rPr>
              <a:t>A storage manag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program module that provides the interface between the low-level data stored in the database and the application programs and queries submitted to the sys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5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ahoma"/>
              </a:rPr>
              <a:t>The storage manag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esponsible for the following tas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raction with the file mana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fficient storing, retrieving, and updating of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272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250128" dir="1436744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base Administrator (DB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ordinates all the activities of the database system; the database administrator has good understanding of the enterprise’s information resources and nee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base administrator’s duties inclu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chema defi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pecifying integrity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Granting user authority to access the datab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torage structure and access method defi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chema and physical organization mod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cting as liaison with 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Monitoring performance and responding to changes in requir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272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208455" dir="2253753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base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 are differentiated by the way they expected to interact with the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Tahoma"/>
              </a:rPr>
              <a:t>Application programmer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interact with system through DML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Tahoma"/>
              </a:rPr>
              <a:t>Sophisticated user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form requests in a database query langu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4114800" y="396252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762120" y="1828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alized users - write specialized database applications that do not fit into the traditional data processing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ïve users - invoke one of the permanent application programs that have been written previous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09480"/>
            <a:ext cx="7772400" cy="9907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208455" dir="2253753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base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257800" y="4038480"/>
            <a:ext cx="28702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53009" dir="2493982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o Needs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5320" y="259092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Corporate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63760" y="3083040"/>
            <a:ext cx="3276360" cy="1602720"/>
            <a:chOff x="1463760" y="3083040"/>
            <a:chExt cx="3276360" cy="1602720"/>
          </a:xfrm>
        </p:grpSpPr>
        <p:sp>
          <p:nvSpPr>
            <p:cNvPr id="46" name=""/>
            <p:cNvSpPr/>
            <p:nvPr/>
          </p:nvSpPr>
          <p:spPr>
            <a:xfrm>
              <a:off x="2835000" y="30830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63760" y="422604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Times New Roman"/>
                </a:rPr>
                <a:t>Web data manag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570920" y="2338560"/>
            <a:ext cx="362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Typical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ersonnel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ventory and purchase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surance policies and custome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…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4267080"/>
            <a:ext cx="231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Typical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eb pag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ersonalize web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…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225101" dir="98089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is in a Databa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-US" sz="2400" spc="-1" strike="noStrike">
                <a:solidFill>
                  <a:srgbClr val="ff5050"/>
                </a:solidFill>
                <a:latin typeface="Tahoma"/>
              </a:rPr>
              <a:t>datab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tains information about a particular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enterpris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a particular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applic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a database for an enterprise may contain everything needed for the planning and operation of the enterprise: customer information, employee information, product information, sales and expens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don’t have to be a company to use a database: you can store your personal information, expenses, phone numbers in a database (e.g., using Access on a P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a matter of fact, you could store all data </a:t>
            </a:r>
            <a:r>
              <a:rPr b="0" i="1" lang="en-US" sz="2000" spc="-1" strike="noStrike">
                <a:solidFill>
                  <a:srgbClr val="ff5050"/>
                </a:solidFill>
                <a:latin typeface="Tahoma"/>
              </a:rPr>
              <a:t>pertinent to a particular purpo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a databa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usually means that a database stores data that are </a:t>
            </a:r>
            <a:r>
              <a:rPr b="0" i="1" lang="en-US" sz="2000" spc="-1" strike="noStrike">
                <a:solidFill>
                  <a:srgbClr val="ff5050"/>
                </a:solidFill>
                <a:latin typeface="Tahoma"/>
              </a:rPr>
              <a:t>relat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each oth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225101" dir="98089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 a database the same as a fi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tore data in a file or a set of files, but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you </a:t>
            </a:r>
            <a:r>
              <a:rPr b="0" i="1" lang="en-US" sz="2000" spc="-1" strike="noStrike">
                <a:solidFill>
                  <a:srgbClr val="ff5050"/>
                </a:solidFill>
                <a:latin typeface="Tahoma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ata and to </a:t>
            </a:r>
            <a:r>
              <a:rPr b="0" i="1" lang="en-US" sz="2000" spc="-1" strike="noStrike">
                <a:solidFill>
                  <a:srgbClr val="ff5050"/>
                </a:solidFill>
                <a:latin typeface="Tahoma"/>
              </a:rPr>
              <a:t>get b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data from the fil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tabase is </a:t>
            </a:r>
            <a:r>
              <a:rPr b="0" i="1" lang="en-US" sz="2400" spc="-1" strike="noStrike">
                <a:solidFill>
                  <a:srgbClr val="ff5050"/>
                </a:solidFill>
                <a:latin typeface="Tahoma"/>
              </a:rPr>
              <a:t>manag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y a DB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62651" dir="2317211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efore we have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219320" y="2362320"/>
            <a:ext cx="6476760" cy="1218960"/>
            <a:chOff x="1219320" y="2362320"/>
            <a:chExt cx="6476760" cy="1218960"/>
          </a:xfrm>
        </p:grpSpPr>
        <p:sp>
          <p:nvSpPr>
            <p:cNvPr id="56" name=""/>
            <p:cNvSpPr/>
            <p:nvPr/>
          </p:nvSpPr>
          <p:spPr>
            <a:xfrm>
              <a:off x="1219320" y="2590560"/>
              <a:ext cx="1218960" cy="7617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14800" y="2514240"/>
              <a:ext cx="1371600" cy="91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38280" y="2971440"/>
              <a:ext cx="1676520" cy="0"/>
            </a:xfrm>
            <a:prstGeom prst="line">
              <a:avLst/>
            </a:prstGeom>
            <a:ln w="12600">
              <a:solidFill>
                <a:srgbClr val="ff505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05720" y="2362320"/>
              <a:ext cx="990360" cy="121896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971440"/>
              <a:ext cx="12193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885480" y="1752480"/>
            <a:ext cx="4019040" cy="459720"/>
            <a:chOff x="3885480" y="1752480"/>
            <a:chExt cx="4019040" cy="459720"/>
          </a:xfrm>
        </p:grpSpPr>
        <p:sp>
          <p:nvSpPr>
            <p:cNvPr id="62" name=""/>
            <p:cNvSpPr/>
            <p:nvPr/>
          </p:nvSpPr>
          <p:spPr>
            <a:xfrm>
              <a:off x="3885480" y="1752480"/>
              <a:ext cx="174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77120" y="1752480"/>
              <a:ext cx="142740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F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295280" y="3886200"/>
            <a:ext cx="6400800" cy="1143000"/>
            <a:chOff x="1295280" y="3886200"/>
            <a:chExt cx="6400800" cy="1143000"/>
          </a:xfrm>
        </p:grpSpPr>
        <p:sp>
          <p:nvSpPr>
            <p:cNvPr id="65" name=""/>
            <p:cNvSpPr/>
            <p:nvPr/>
          </p:nvSpPr>
          <p:spPr>
            <a:xfrm>
              <a:off x="1295280" y="4038840"/>
              <a:ext cx="1143000" cy="76176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38280" y="4419720"/>
              <a:ext cx="1676520" cy="0"/>
            </a:xfrm>
            <a:prstGeom prst="line">
              <a:avLst/>
            </a:prstGeom>
            <a:ln w="12600">
              <a:solidFill>
                <a:srgbClr val="ff505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81680" y="3886200"/>
              <a:ext cx="914400" cy="114300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86400" y="4496040"/>
              <a:ext cx="1295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14800" y="3962520"/>
              <a:ext cx="13716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33520" y="5257800"/>
            <a:ext cx="5273640" cy="723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estion: When a customer ordered 10 PC monitors, how many </a:t>
            </a:r>
            <a:r>
              <a:rPr b="0" i="1" lang="en-US" sz="2000" spc="-1" strike="noStrike">
                <a:solidFill>
                  <a:srgbClr val="ff5050"/>
                </a:solidFill>
                <a:latin typeface="Times New Roman"/>
              </a:rPr>
              <a:t>file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o you have to upd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638680" y="3352320"/>
            <a:ext cx="990720" cy="762120"/>
            <a:chOff x="5638680" y="3352320"/>
            <a:chExt cx="990720" cy="762120"/>
          </a:xfrm>
        </p:grpSpPr>
        <p:sp>
          <p:nvSpPr>
            <p:cNvPr id="72" name=""/>
            <p:cNvSpPr/>
            <p:nvPr/>
          </p:nvSpPr>
          <p:spPr>
            <a:xfrm>
              <a:off x="5638680" y="342900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638680" y="335232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867280" y="5486400"/>
            <a:ext cx="3048120" cy="762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ey issues: data sharing, data redund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62651" dir="2317211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Simple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43000" y="1752480"/>
            <a:ext cx="6477120" cy="3200400"/>
            <a:chOff x="1143000" y="1752480"/>
            <a:chExt cx="6477120" cy="3200400"/>
          </a:xfrm>
        </p:grpSpPr>
        <p:sp>
          <p:nvSpPr>
            <p:cNvPr id="77" name=""/>
            <p:cNvSpPr/>
            <p:nvPr/>
          </p:nvSpPr>
          <p:spPr>
            <a:xfrm>
              <a:off x="1143000" y="2286000"/>
              <a:ext cx="1219320" cy="7621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43000" y="4191120"/>
              <a:ext cx="1143000" cy="76176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/C++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gra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38480" y="3200400"/>
              <a:ext cx="13716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B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62320" y="2743200"/>
              <a:ext cx="1676160" cy="701640"/>
            </a:xfrm>
            <a:prstGeom prst="line">
              <a:avLst/>
            </a:prstGeom>
            <a:ln w="12600">
              <a:solidFill>
                <a:srgbClr val="ff505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286000" y="3885840"/>
              <a:ext cx="1752480" cy="762120"/>
            </a:xfrm>
            <a:prstGeom prst="line">
              <a:avLst/>
            </a:prstGeom>
            <a:ln w="12600">
              <a:solidFill>
                <a:srgbClr val="ff505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1752480"/>
              <a:ext cx="990720" cy="121932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3581280"/>
              <a:ext cx="914400" cy="114300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410080" y="2437920"/>
              <a:ext cx="1219320" cy="838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10080" y="3809880"/>
              <a:ext cx="129564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837360" y="5334120"/>
            <a:ext cx="17413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53800" y="5105520"/>
            <a:ext cx="14180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03880" y="43797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733920" y="3962160"/>
            <a:ext cx="2666880" cy="1923120"/>
            <a:chOff x="3733920" y="3962160"/>
            <a:chExt cx="2666880" cy="1923120"/>
          </a:xfrm>
        </p:grpSpPr>
        <p:sp>
          <p:nvSpPr>
            <p:cNvPr id="90" name=""/>
            <p:cNvSpPr/>
            <p:nvPr/>
          </p:nvSpPr>
          <p:spPr>
            <a:xfrm>
              <a:off x="3733920" y="4419720"/>
              <a:ext cx="26668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5050"/>
                  </a:solidFill>
                  <a:latin typeface="Times New Roman"/>
                </a:rPr>
                <a:t>Shared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facilitie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ackup and recov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ata storage and access modu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rogramming tools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724280" y="3962160"/>
              <a:ext cx="1526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62651" dir="2317211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Trebuchet MS"/>
              </a:rPr>
              <a:t>Purpose of Databas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atabase management systems were developed to handle the difficulties caused by different people writing different applications independ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10666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DBMS attempts to resolve the following problem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redundancy and inconsistency by keeping one copy of a data item in the databas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iculty in accessing data by provided query languages and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isolation (multiple files and format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ity problems by enforcing constraints (age &gt; 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omicity of upd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current access by multiple 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rity problem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62651" dir="2317211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Trebuchet MS"/>
              </a:rPr>
              <a:t>Purposes of Databas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2:30:30Z</dcterms:created>
  <dc:creator/>
  <dc:description/>
  <dc:language>en-US</dc:language>
  <cp:lastModifiedBy>zahid</cp:lastModifiedBy>
  <cp:lastPrinted>1999-09-01T01:25:02Z</cp:lastPrinted>
  <dcterms:modified xsi:type="dcterms:W3CDTF">2003-03-13T09:11:35Z</dcterms:modified>
  <cp:revision>135</cp:revision>
  <dc:subject/>
  <dc:title>Comp 231 Database Management Systems</dc:title>
</cp:coreProperties>
</file>